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9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9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9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9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9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9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9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9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9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9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9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9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9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9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9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9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9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9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9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9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9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9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9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9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00440"/>
            <a:ext cx="6248520" cy="320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txBody>
          <a:bodyPr lIns="90000" rIns="90000" tIns="46800" bIns="91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heSansOffi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heSansOffice"/>
              </a:rPr>
              <a:t>Mapping Invasive Plant Spec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1905120" cy="33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heSansOffi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heSansOffic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TheSansOffi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heSansOffice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  <a:p>
            <a:pPr lvl="1" marL="743040" indent="-28584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TheSansOffi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heSansOffice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TheSansOffi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heSansOffice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  <a:p>
            <a:pPr lvl="3" marL="1600200" indent="-22860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TheSansOffi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heSansOffice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  <a:p>
            <a:pPr lvl="4" marL="2057400" indent="-22860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TheSansOffi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heSansOffice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  <a:p>
            <a:pPr lvl="5" marL="2057400" indent="-22860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TheSansOffi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heSansOffice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  <a:p>
            <a:pPr lvl="6" marL="2057400" indent="-22860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TheSansOffi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heSansOffice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heSans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ub1.calweedmapper.org/quadmapping/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0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3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hyperlink" Target="http://www.sub1.calweedmapper.org/cynfal/" TargetMode="External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onomaecologycenter.org/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www.baedn.org/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://www.calflora.org/" TargetMode="External"/><Relationship Id="rId6" Type="http://schemas.openxmlformats.org/officeDocument/2006/relationships/image" Target="../media/image6.png"/><Relationship Id="rId7" Type="http://schemas.openxmlformats.org/officeDocument/2006/relationships/hyperlink" Target="http://www.cal-ipc.org/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alweedmapper.org/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1600200"/>
            <a:ext cx="7848720" cy="45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d4d4d"/>
                </a:solidFill>
                <a:latin typeface="Verdana"/>
                <a:ea typeface="Times New Roman"/>
              </a:rPr>
              <a:t>CalWeedMapper</a:t>
            </a:r>
            <a:br>
              <a:rPr sz="2600"/>
            </a:br>
            <a:br>
              <a:rPr sz="1200"/>
            </a:br>
            <a:r>
              <a:rPr b="0" lang="en-US" sz="3200" spc="-1" strike="noStrike">
                <a:solidFill>
                  <a:srgbClr val="4d4d4d"/>
                </a:solidFill>
                <a:latin typeface="Verdana"/>
                <a:ea typeface="Times New Roman"/>
              </a:rPr>
              <a:t>Mapping the Spread of </a:t>
            </a:r>
            <a:br>
              <a:rPr sz="3200"/>
            </a:br>
            <a:r>
              <a:rPr b="0" lang="en-US" sz="3200" spc="-1" strike="noStrike">
                <a:solidFill>
                  <a:srgbClr val="4d4d4d"/>
                </a:solidFill>
                <a:latin typeface="Verdana"/>
                <a:ea typeface="Times New Roman"/>
              </a:rPr>
              <a:t>Invasive Plant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Karsten Vennemann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a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71800" y="4724280"/>
            <a:ext cx="2590920" cy="451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144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587520"/>
            <a:ext cx="7086600" cy="573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380880" y="31680"/>
          <a:ext cx="7162920" cy="577800"/>
        </p:xfrm>
        <a:graphic>
          <a:graphicData uri="http://schemas.openxmlformats.org/drawingml/2006/table">
            <a:tbl>
              <a:tblPr/>
              <a:tblGrid>
                <a:gridCol w="7162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CalWeedMapper Online Too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6680"/>
            <a:ext cx="7315200" cy="6170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21621" t="48739" r="43250" b="0"/>
          <a:stretch/>
        </p:blipFill>
        <p:spPr>
          <a:xfrm>
            <a:off x="1828800" y="3200400"/>
            <a:ext cx="1486080" cy="1924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876920" y="2895480"/>
            <a:ext cx="3238560" cy="26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4572000" y="990720"/>
          <a:ext cx="1752480" cy="62388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90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25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5050"/>
                          </a:solidFill>
                          <a:latin typeface="TheSansOffice"/>
                          <a:ea typeface="Arial"/>
                        </a:rPr>
                        <a:t>Observation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25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5050"/>
                          </a:solidFill>
                          <a:latin typeface="TheSansOffice"/>
                          <a:ea typeface="Arial"/>
                        </a:rPr>
                        <a:t>(point in tim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57200" y="838080"/>
            <a:ext cx="6267600" cy="4743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6248520" y="1828800"/>
            <a:ext cx="907920" cy="210492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380880" y="2438280"/>
            <a:ext cx="2819520" cy="3886200"/>
            <a:chOff x="380880" y="2438280"/>
            <a:chExt cx="2819520" cy="3886200"/>
          </a:xfrm>
        </p:grpSpPr>
        <p:sp>
          <p:nvSpPr>
            <p:cNvPr id="78" name=""/>
            <p:cNvSpPr/>
            <p:nvPr/>
          </p:nvSpPr>
          <p:spPr>
            <a:xfrm>
              <a:off x="380880" y="2438280"/>
              <a:ext cx="2819520" cy="3886200"/>
            </a:xfrm>
            <a:prstGeom prst="rect">
              <a:avLst/>
            </a:prstGeom>
            <a:solidFill>
              <a:srgbClr val="ffffff"/>
            </a:solidFill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6"/>
            <a:stretch/>
          </p:blipFill>
          <p:spPr>
            <a:xfrm>
              <a:off x="457200" y="3200400"/>
              <a:ext cx="2523960" cy="16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7"/>
            <a:stretch/>
          </p:blipFill>
          <p:spPr>
            <a:xfrm>
              <a:off x="457200" y="4876920"/>
              <a:ext cx="2523960" cy="14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8"/>
            <a:stretch/>
          </p:blipFill>
          <p:spPr>
            <a:xfrm>
              <a:off x="457200" y="2438280"/>
              <a:ext cx="2523960" cy="70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04920" y="1522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4d4d4d"/>
                </a:solidFill>
                <a:latin typeface="Arial"/>
              </a:rPr>
              <a:t>200 dynamic plant species lay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705720" y="0"/>
            <a:ext cx="2438280" cy="320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heSansOffice"/>
              </a:rPr>
              <a:t>Talk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1143000"/>
          <a:ext cx="8229600" cy="7603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4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Technical details of the tool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1371600"/>
            <a:ext cx="739152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90480" indent="-350640">
              <a:lnSpc>
                <a:spcPct val="125000"/>
              </a:lnSpc>
              <a:spcAft>
                <a:spcPts val="1749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rver running Apache on HostGIS Linux (Slackw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50640">
              <a:lnSpc>
                <a:spcPct val="125000"/>
              </a:lnSpc>
              <a:spcAft>
                <a:spcPts val="1749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PostGIS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50640">
              <a:lnSpc>
                <a:spcPct val="125000"/>
              </a:lnSpc>
              <a:spcAft>
                <a:spcPts val="1749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MapServer (University of Minnesota)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Map rendering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50640">
              <a:lnSpc>
                <a:spcPct val="125000"/>
              </a:lnSpc>
              <a:spcAft>
                <a:spcPts val="1749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d4d4d"/>
                </a:solidFill>
                <a:latin typeface="Arial"/>
              </a:rPr>
              <a:t>OpenLayers Vie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0"/>
            <a:ext cx="2438280" cy="320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heSansOffice"/>
              </a:rPr>
              <a:t>Technical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80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Technical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724280" y="2895480"/>
            <a:ext cx="1752480" cy="457200"/>
            <a:chOff x="4724280" y="2895480"/>
            <a:chExt cx="1752480" cy="457200"/>
          </a:xfrm>
        </p:grpSpPr>
        <p:pic>
          <p:nvPicPr>
            <p:cNvPr id="89" name="" descr=""/>
            <p:cNvPicPr/>
            <p:nvPr/>
          </p:nvPicPr>
          <p:blipFill>
            <a:blip r:embed="rId6"/>
            <a:stretch/>
          </p:blipFill>
          <p:spPr>
            <a:xfrm>
              <a:off x="5851080" y="2895480"/>
              <a:ext cx="6256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7"/>
            <a:stretch/>
          </p:blipFill>
          <p:spPr>
            <a:xfrm>
              <a:off x="4724280" y="2895480"/>
              <a:ext cx="1001520" cy="22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4724280" y="4038480"/>
            <a:ext cx="1838520" cy="487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4724280" y="4859280"/>
            <a:ext cx="182880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990720"/>
            <a:ext cx="7086600" cy="129420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3429000"/>
            <a:ext cx="7162560" cy="368280"/>
          </a:xfrm>
          <a:prstGeom prst="rect">
            <a:avLst/>
          </a:prstGeom>
          <a:solidFill>
            <a:srgbClr val="62dbd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alWeedMapper Web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819520"/>
            <a:ext cx="716256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pache Web Server</a:t>
            </a:r>
            <a:r>
              <a:rPr b="1" lang="en-US" sz="1800" spc="-1" strike="noStrike">
                <a:solidFill>
                  <a:srgbClr val="000000"/>
                </a:solidFill>
                <a:latin typeface="A.C.M.E. Secret Age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5181480"/>
            <a:ext cx="7162560" cy="990720"/>
          </a:xfrm>
          <a:prstGeom prst="rect">
            <a:avLst/>
          </a:prstGeom>
          <a:solidFill>
            <a:srgbClr val="bbe0e3"/>
          </a:solidFill>
          <a:ln w="3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5486400"/>
            <a:ext cx="175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ati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886200" y="5257800"/>
            <a:ext cx="762120" cy="762120"/>
            <a:chOff x="3886200" y="5257800"/>
            <a:chExt cx="762120" cy="762120"/>
          </a:xfrm>
        </p:grpSpPr>
        <p:sp>
          <p:nvSpPr>
            <p:cNvPr id="100" name=""/>
            <p:cNvSpPr/>
            <p:nvPr/>
          </p:nvSpPr>
          <p:spPr>
            <a:xfrm>
              <a:off x="3886200" y="5257800"/>
              <a:ext cx="762120" cy="7621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86200" y="5486400"/>
              <a:ext cx="533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ctor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895480" y="5257800"/>
            <a:ext cx="761760" cy="762120"/>
            <a:chOff x="2895480" y="5257800"/>
            <a:chExt cx="761760" cy="762120"/>
          </a:xfrm>
        </p:grpSpPr>
        <p:sp>
          <p:nvSpPr>
            <p:cNvPr id="103" name=""/>
            <p:cNvSpPr/>
            <p:nvPr/>
          </p:nvSpPr>
          <p:spPr>
            <a:xfrm>
              <a:off x="2895480" y="5257800"/>
              <a:ext cx="761760" cy="7621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95480" y="5486400"/>
              <a:ext cx="533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ster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257800" y="5257800"/>
            <a:ext cx="914040" cy="762120"/>
            <a:chOff x="5257800" y="5257800"/>
            <a:chExt cx="914040" cy="762120"/>
          </a:xfrm>
        </p:grpSpPr>
        <p:sp>
          <p:nvSpPr>
            <p:cNvPr id="106" name=""/>
            <p:cNvSpPr/>
            <p:nvPr/>
          </p:nvSpPr>
          <p:spPr>
            <a:xfrm>
              <a:off x="5257800" y="5257800"/>
              <a:ext cx="914040" cy="7621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48880" y="5486400"/>
              <a:ext cx="640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stGIS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457200" y="2743200"/>
            <a:ext cx="8153280" cy="3505320"/>
          </a:xfrm>
          <a:prstGeom prst="rect">
            <a:avLst/>
          </a:prstGeom>
          <a:noFill/>
          <a:ln w="3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62920" y="2789280"/>
            <a:ext cx="137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914400"/>
            <a:ext cx="8153280" cy="1523880"/>
          </a:xfrm>
          <a:prstGeom prst="rect">
            <a:avLst/>
          </a:prstGeom>
          <a:noFill/>
          <a:ln w="3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96" idx="2"/>
            <a:endCxn id="94" idx="0"/>
          </p:cNvCxnSpPr>
          <p:nvPr/>
        </p:nvCxnSpPr>
        <p:spPr>
          <a:xfrm>
            <a:off x="4114440" y="3214440"/>
            <a:ext cx="1080" cy="205560"/>
          </a:xfrm>
          <a:prstGeom prst="straightConnector1">
            <a:avLst/>
          </a:prstGeom>
          <a:ln cap="rnd" w="25560">
            <a:solidFill>
              <a:srgbClr val="000080"/>
            </a:solidFill>
            <a:custDash>
              <a:ds d="100000" sp="1000"/>
            </a:custDash>
            <a:miter/>
          </a:ln>
        </p:spPr>
      </p:cxnSp>
      <p:grpSp>
        <p:nvGrpSpPr>
          <p:cNvPr id="112" name=""/>
          <p:cNvGrpSpPr/>
          <p:nvPr/>
        </p:nvGrpSpPr>
        <p:grpSpPr>
          <a:xfrm>
            <a:off x="3962520" y="2438280"/>
            <a:ext cx="304560" cy="304560"/>
            <a:chOff x="396252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>
              <a:off x="4114800" y="2438280"/>
              <a:ext cx="0" cy="50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14800" y="2692080"/>
              <a:ext cx="0" cy="50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62520" y="2641320"/>
              <a:ext cx="152280" cy="50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962520" y="2539800"/>
              <a:ext cx="304560" cy="101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14800" y="2488680"/>
              <a:ext cx="152280" cy="50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572000" y="1219320"/>
            <a:ext cx="2514600" cy="916920"/>
          </a:xfrm>
          <a:prstGeom prst="rect">
            <a:avLst/>
          </a:prstGeom>
          <a:solidFill>
            <a:srgbClr val="62dbd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penlayer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xtJS &amp; GeoEx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Java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960480"/>
            <a:ext cx="129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/>
          <p:nvPr/>
        </p:nvCxnSpPr>
        <p:spPr>
          <a:xfrm flipH="1" rot="16200000">
            <a:off x="4606560" y="4154760"/>
            <a:ext cx="1453320" cy="762840"/>
          </a:xfrm>
          <a:prstGeom prst="bentConnector3">
            <a:avLst>
              <a:gd name="adj1" fmla="val 12884"/>
            </a:avLst>
          </a:prstGeom>
          <a:ln cap="rnd" w="25560">
            <a:solidFill>
              <a:srgbClr val="000080"/>
            </a:solidFill>
            <a:custDash>
              <a:ds d="100000" sp="1000"/>
            </a:custDash>
            <a:miter/>
          </a:ln>
        </p:spPr>
      </p:cxnSp>
      <p:cxnSp>
        <p:nvCxnSpPr>
          <p:cNvPr id="121" name=""/>
          <p:cNvCxnSpPr>
            <a:stCxn id="97" idx="0"/>
            <a:endCxn id="122" idx="2"/>
          </p:cNvCxnSpPr>
          <p:nvPr/>
        </p:nvCxnSpPr>
        <p:spPr>
          <a:xfrm flipV="1">
            <a:off x="4114440" y="4966560"/>
            <a:ext cx="1080" cy="214920"/>
          </a:xfrm>
          <a:prstGeom prst="bentConnector2">
            <a:avLst/>
          </a:prstGeom>
          <a:ln cap="rnd" w="25560">
            <a:solidFill>
              <a:srgbClr val="000080"/>
            </a:solidFill>
            <a:custDash>
              <a:ds d="100000" sp="1000"/>
            </a:custDash>
            <a:miter/>
          </a:ln>
        </p:spPr>
      </p:cxnSp>
      <p:grpSp>
        <p:nvGrpSpPr>
          <p:cNvPr id="123" name=""/>
          <p:cNvGrpSpPr/>
          <p:nvPr/>
        </p:nvGrpSpPr>
        <p:grpSpPr>
          <a:xfrm>
            <a:off x="2819520" y="4191120"/>
            <a:ext cx="2590560" cy="749160"/>
            <a:chOff x="2819520" y="4191120"/>
            <a:chExt cx="2590560" cy="749160"/>
          </a:xfrm>
        </p:grpSpPr>
        <p:sp>
          <p:nvSpPr>
            <p:cNvPr id="124" name=""/>
            <p:cNvSpPr/>
            <p:nvPr/>
          </p:nvSpPr>
          <p:spPr>
            <a:xfrm>
              <a:off x="2819520" y="4191120"/>
              <a:ext cx="259056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W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19520" y="4572000"/>
              <a:ext cx="2590560" cy="36828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MapServer Eng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5" name=""/>
          <p:cNvCxnSpPr>
            <a:stCxn id="124" idx="0"/>
            <a:endCxn id="94" idx="2"/>
          </p:cNvCxnSpPr>
          <p:nvPr/>
        </p:nvCxnSpPr>
        <p:spPr>
          <a:xfrm flipV="1">
            <a:off x="4114440" y="3823920"/>
            <a:ext cx="1080" cy="357840"/>
          </a:xfrm>
          <a:prstGeom prst="bentConnector2">
            <a:avLst/>
          </a:prstGeom>
          <a:ln cap="rnd" w="25560">
            <a:solidFill>
              <a:srgbClr val="000080"/>
            </a:solidFill>
            <a:custDash>
              <a:ds d="100000" sp="1000"/>
            </a:custDash>
            <a:miter/>
          </a:ln>
        </p:spPr>
      </p:cxnSp>
      <p:sp>
        <p:nvSpPr>
          <p:cNvPr id="126" name=""/>
          <p:cNvSpPr/>
          <p:nvPr/>
        </p:nvSpPr>
        <p:spPr>
          <a:xfrm>
            <a:off x="6705720" y="0"/>
            <a:ext cx="2438280" cy="320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heSansOffice"/>
              </a:rPr>
              <a:t>Technical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1447560" cy="1173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514600" y="1066680"/>
            <a:ext cx="4876920" cy="1206720"/>
          </a:xfrm>
          <a:prstGeom prst="rect">
            <a:avLst/>
          </a:prstGeom>
          <a:noFill/>
          <a:ln w="3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400800" y="5257800"/>
            <a:ext cx="762120" cy="762120"/>
            <a:chOff x="6400800" y="5257800"/>
            <a:chExt cx="762120" cy="762120"/>
          </a:xfrm>
        </p:grpSpPr>
        <p:sp>
          <p:nvSpPr>
            <p:cNvPr id="130" name=""/>
            <p:cNvSpPr/>
            <p:nvPr/>
          </p:nvSpPr>
          <p:spPr>
            <a:xfrm>
              <a:off x="6400800" y="5257800"/>
              <a:ext cx="762120" cy="7621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00800" y="5486400"/>
              <a:ext cx="533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p ti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2" name=""/>
          <p:cNvCxnSpPr>
            <a:endCxn id="130" idx="0"/>
          </p:cNvCxnSpPr>
          <p:nvPr/>
        </p:nvCxnSpPr>
        <p:spPr>
          <a:xfrm flipH="1" rot="16200000">
            <a:off x="5723640" y="4105080"/>
            <a:ext cx="1448640" cy="857880"/>
          </a:xfrm>
          <a:prstGeom prst="bentConnector3">
            <a:avLst>
              <a:gd name="adj1" fmla="val 12378"/>
            </a:avLst>
          </a:prstGeom>
          <a:ln cap="rnd" w="25560">
            <a:solidFill>
              <a:srgbClr val="000080"/>
            </a:solidFill>
            <a:custDash>
              <a:ds d="100000" sp="1000"/>
            </a:custDash>
            <a:miter/>
          </a:ln>
        </p:spPr>
      </p:cxnSp>
      <p:cxnSp>
        <p:nvCxnSpPr>
          <p:cNvPr id="133" name=""/>
          <p:cNvCxnSpPr/>
          <p:nvPr/>
        </p:nvCxnSpPr>
        <p:spPr>
          <a:xfrm>
            <a:off x="4952520" y="3200040"/>
            <a:ext cx="1080" cy="205560"/>
          </a:xfrm>
          <a:prstGeom prst="straightConnector1">
            <a:avLst/>
          </a:prstGeom>
          <a:ln cap="rnd" w="25560">
            <a:solidFill>
              <a:srgbClr val="000080"/>
            </a:solidFill>
            <a:custDash>
              <a:ds d="100000" sp="1000"/>
            </a:custDash>
            <a:miter/>
          </a:ln>
        </p:spPr>
      </p:cxnSp>
      <p:cxnSp>
        <p:nvCxnSpPr>
          <p:cNvPr id="134" name=""/>
          <p:cNvCxnSpPr/>
          <p:nvPr/>
        </p:nvCxnSpPr>
        <p:spPr>
          <a:xfrm>
            <a:off x="6019560" y="3200040"/>
            <a:ext cx="1080" cy="205560"/>
          </a:xfrm>
          <a:prstGeom prst="straightConnector1">
            <a:avLst/>
          </a:prstGeom>
          <a:ln cap="rnd" w="25560">
            <a:solidFill>
              <a:srgbClr val="000080"/>
            </a:solidFill>
            <a:custDash>
              <a:ds d="100000" sp="1000"/>
            </a:custDash>
            <a:miter/>
          </a:ln>
        </p:spPr>
      </p:cxnSp>
      <p:sp>
        <p:nvSpPr>
          <p:cNvPr id="135" name=""/>
          <p:cNvSpPr/>
          <p:nvPr/>
        </p:nvSpPr>
        <p:spPr>
          <a:xfrm>
            <a:off x="6248520" y="4419720"/>
            <a:ext cx="1218960" cy="33732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ile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22" idx="3"/>
          </p:cNvCxnSpPr>
          <p:nvPr/>
        </p:nvCxnSpPr>
        <p:spPr>
          <a:xfrm>
            <a:off x="5419440" y="4765680"/>
            <a:ext cx="143640" cy="497520"/>
          </a:xfrm>
          <a:prstGeom prst="bentConnector2">
            <a:avLst/>
          </a:prstGeom>
          <a:ln cap="rnd" w="25560">
            <a:solidFill>
              <a:srgbClr val="00008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1201680"/>
            <a:ext cx="8305920" cy="48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Originally developed at the University of Minnesota (UMN), short “MapServe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Aft>
                <a:spcPts val="799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one of the most mature open sourc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Aft>
                <a:spcPts val="799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written i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Main Foc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Aft>
                <a:spcPts val="799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rendering spati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Aft>
                <a:spcPts val="799"/>
              </a:spcAft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development environment for spatially-enabled internet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Map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Aft>
                <a:spcPts val="799"/>
              </a:spcAft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CGI mapserv (Linux) and mapserv.exe (window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Aft>
                <a:spcPts val="799"/>
              </a:spcAft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MapScript API available for Python, PHP, Perl, and J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Aft>
                <a:spcPts val="799"/>
              </a:spcAft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Map/Layer configuration text file .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Aft>
                <a:spcPts val="799"/>
              </a:spcAft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In: PostGIS, Oracle Spatial ArcSDE, WMS, GDAL and OGR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Aft>
                <a:spcPts val="799"/>
              </a:spcAft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Out: GIF, JPG, PNG, all GDAL formats, WFS and W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3808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Map rendering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05720" y="0"/>
            <a:ext cx="2438280" cy="320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heSansOffice"/>
              </a:rPr>
              <a:t>Technical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1"/>
          <a:stretch/>
        </p:blipFill>
        <p:spPr>
          <a:xfrm>
            <a:off x="4267080" y="325440"/>
            <a:ext cx="221940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133720" y="611280"/>
            <a:ext cx="510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d4d4d"/>
                </a:solidFill>
                <a:latin typeface="Arial"/>
              </a:rPr>
              <a:t>PostGIS – Spatial Databas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1828800"/>
            <a:ext cx="8229600" cy="45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52440">
              <a:lnSpc>
                <a:spcPct val="100000"/>
              </a:lnSpc>
              <a:spcAft>
                <a:spcPts val="1562"/>
              </a:spcAft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Verdana"/>
              </a:rPr>
              <a:t>PostGIS is an extension for PostgreSQ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52440">
              <a:lnSpc>
                <a:spcPct val="100000"/>
              </a:lnSpc>
              <a:spcAft>
                <a:spcPts val="1562"/>
              </a:spcAft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Verdana"/>
              </a:rPr>
              <a:t>adds support for geographic objects to PostgreSQ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52440">
              <a:lnSpc>
                <a:spcPct val="100000"/>
              </a:lnSpc>
              <a:spcAft>
                <a:spcPts val="1562"/>
              </a:spcAft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Verdana"/>
              </a:rPr>
              <a:t>enables PostgreSQL server to be used as a backend spatial database for G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52440">
              <a:lnSpc>
                <a:spcPct val="100000"/>
              </a:lnSpc>
              <a:spcAft>
                <a:spcPts val="1562"/>
              </a:spcAft>
              <a:buSzPct val="102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Verdana"/>
              </a:rPr>
              <a:t>Spatial operations and analysis simply mean running a (spatial) SQL query in the databa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52440">
              <a:lnSpc>
                <a:spcPct val="100000"/>
              </a:lnSpc>
              <a:spcAft>
                <a:spcPts val="1562"/>
              </a:spcAft>
              <a:buSzPct val="102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d4d4d"/>
                </a:solidFill>
                <a:latin typeface="Verdana"/>
              </a:rPr>
              <a:t>Similar functions as SDE and much more</a:t>
            </a:r>
            <a:r>
              <a:rPr b="0" lang="en-US" sz="2500" spc="-1" strike="noStrike">
                <a:solidFill>
                  <a:srgbClr val="4d4d4d"/>
                </a:solidFill>
                <a:latin typeface="A.C.M.E. Secret Agent"/>
              </a:rPr>
              <a:t> ….</a:t>
            </a:r>
            <a:br>
              <a:rPr sz="2500"/>
            </a:br>
            <a:r>
              <a:rPr b="0" lang="en-US" sz="2500" spc="-1" strike="noStrike">
                <a:solidFill>
                  <a:srgbClr val="4d4d4d"/>
                </a:solidFill>
                <a:latin typeface="A.C.M.E. Secret Agent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457200" y="457200"/>
            <a:ext cx="1295280" cy="1297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705720" y="0"/>
            <a:ext cx="2438280" cy="320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bIns="91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heSansOffice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886200" y="4724280"/>
            <a:ext cx="3200400" cy="1621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57200" y="1066680"/>
            <a:ext cx="815328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5891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Main supporter “MetaCart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6520">
              <a:lnSpc>
                <a:spcPct val="100000"/>
              </a:lnSpc>
              <a:spcAft>
                <a:spcPts val="1001"/>
              </a:spcAft>
              <a:buSzPct val="102837"/>
              <a:buBlip>
                <a:blip r:embed="rId2"/>
              </a:buBlip>
              <a:tabLst>
                <a:tab algn="l" pos="457200"/>
                <a:tab algn="l" pos="5891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object-oriented JavaScript library (using Prototype.js and Rico libra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5891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Lets you add maps to any web page by embedding OpenLayer.j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6520">
              <a:lnSpc>
                <a:spcPct val="100000"/>
              </a:lnSpc>
              <a:spcAft>
                <a:spcPts val="1001"/>
              </a:spcAft>
              <a:buSzPct val="102837"/>
              <a:buBlip>
                <a:blip r:embed="rId3"/>
              </a:buBlip>
              <a:tabLst>
                <a:tab algn="l" pos="457200"/>
                <a:tab algn="l" pos="5891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no server-side depend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6520">
              <a:lnSpc>
                <a:spcPct val="100000"/>
              </a:lnSpc>
              <a:spcAft>
                <a:spcPts val="1001"/>
              </a:spcAft>
              <a:buSzPct val="102837"/>
              <a:buBlip>
                <a:blip r:embed="rId4"/>
              </a:buBlip>
              <a:tabLst>
                <a:tab algn="l" pos="457200"/>
                <a:tab algn="l" pos="5891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Easily reusable component</a:t>
            </a:r>
            <a:br>
              <a:rPr sz="1600"/>
            </a:b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…similar to Google Maps and MSN Virtual Earth Web Mapping AP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6520">
              <a:lnSpc>
                <a:spcPct val="100000"/>
              </a:lnSpc>
              <a:spcAft>
                <a:spcPts val="1001"/>
              </a:spcAft>
              <a:buSzPct val="102837"/>
              <a:buBlip>
                <a:blip r:embed="rId5"/>
              </a:buBlip>
              <a:tabLst>
                <a:tab algn="l" pos="457200"/>
                <a:tab algn="l" pos="5891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Slippy map styl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5891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Input Forma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6520">
              <a:lnSpc>
                <a:spcPct val="100000"/>
              </a:lnSpc>
              <a:spcAft>
                <a:spcPts val="1001"/>
              </a:spcAft>
              <a:buSzPct val="102837"/>
              <a:buBlip>
                <a:blip r:embed="rId6"/>
              </a:buBlip>
              <a:tabLst>
                <a:tab algn="l" pos="457200"/>
                <a:tab algn="l" pos="5891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Tile sources: Bing, Worldwind, Yahoo &amp; Google Maps, W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6520">
              <a:lnSpc>
                <a:spcPct val="100000"/>
              </a:lnSpc>
              <a:spcAft>
                <a:spcPts val="1001"/>
              </a:spcAft>
              <a:buSzPct val="102837"/>
              <a:buBlip>
                <a:blip r:embed="rId7"/>
              </a:buBlip>
              <a:tabLst>
                <a:tab algn="l" pos="457200"/>
                <a:tab algn="l" pos="5891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Vector layer input: KaMap, MapServer, GeoRSS, WFS, [KML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5891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Standard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6520">
              <a:lnSpc>
                <a:spcPct val="100000"/>
              </a:lnSpc>
              <a:spcAft>
                <a:spcPts val="1001"/>
              </a:spcAft>
              <a:buSzPct val="102837"/>
              <a:buBlip>
                <a:blip r:embed="rId8"/>
              </a:buBlip>
              <a:tabLst>
                <a:tab algn="l" pos="457200"/>
                <a:tab algn="l" pos="5891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Google-like zoom bar, </a:t>
            </a:r>
            <a:br>
              <a:rPr sz="1600"/>
            </a:b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standard functions </a:t>
            </a:r>
            <a:br>
              <a:rPr sz="1600"/>
            </a:br>
            <a:r>
              <a:rPr b="0" lang="en-US" sz="1600" spc="-1" strike="noStrike">
                <a:solidFill>
                  <a:srgbClr val="4d4d4d"/>
                </a:solidFill>
                <a:latin typeface="Verdana"/>
              </a:rPr>
              <a:t>like zoom in/out p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3808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Open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2895480" y="457200"/>
            <a:ext cx="1828800" cy="398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1"/>
          <a:stretch/>
        </p:blipFill>
        <p:spPr>
          <a:xfrm>
            <a:off x="3886200" y="4724280"/>
            <a:ext cx="3200400" cy="1594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876920" y="0"/>
            <a:ext cx="4267080" cy="320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heSansOffice"/>
              </a:rPr>
              <a:t>Web mapping components - map vie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705720" y="0"/>
            <a:ext cx="2438280" cy="320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heSansOffice"/>
              </a:rPr>
              <a:t>Talk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04920" y="228600"/>
          <a:ext cx="8610480" cy="622944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793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SzPct val="102861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48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 </a:t>
                      </a:r>
                      <a:r>
                        <a:rPr b="0" lang="de-DE" sz="4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Project Outlook</a:t>
                      </a:r>
                      <a:r>
                        <a:rPr b="1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  funding until Spring 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25000"/>
                        </a:lnSpc>
                        <a:buSzPct val="102884"/>
                        <a:buBlip>
                          <a:blip r:embed="rId2"/>
                        </a:buBlip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 </a:t>
                      </a:r>
                      <a:r>
                        <a:rPr b="1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Phases I and II completed</a:t>
                      </a:r>
                      <a:br>
                        <a:rPr sz="2400"/>
                      </a:br>
                      <a:r>
                        <a:rPr b="1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    </a:t>
                      </a:r>
                      <a:r>
                        <a:rPr b="0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Onlinetool Design &amp; edit tool imple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25000"/>
                        </a:lnSpc>
                        <a:buSzPct val="102884"/>
                        <a:buBlip>
                          <a:blip r:embed="rId3"/>
                        </a:buBlip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 </a:t>
                      </a:r>
                      <a:r>
                        <a:rPr b="1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Phase III – started</a:t>
                      </a:r>
                      <a:br>
                        <a:rPr sz="2400"/>
                      </a:br>
                      <a:r>
                        <a:rPr b="1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    </a:t>
                      </a:r>
                      <a:r>
                        <a:rPr b="0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Integration of CALFLORA point, line and polygon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25000"/>
                        </a:lnSpc>
                        <a:buSzPct val="102884"/>
                        <a:buBlip>
                          <a:blip r:embed="rId4"/>
                        </a:buBlip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 </a:t>
                      </a:r>
                      <a:r>
                        <a:rPr b="1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Phase IV– started</a:t>
                      </a:r>
                      <a:br>
                        <a:rPr sz="2400"/>
                      </a:br>
                      <a:r>
                        <a:rPr b="1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    </a:t>
                      </a:r>
                      <a:r>
                        <a:rPr b="0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Design and Implementation of public facing webs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    </a:t>
                      </a:r>
                      <a:r>
                        <a:rPr b="0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for volunteers to easily update map qua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SzPct val="102884"/>
                        <a:buBlip>
                          <a:blip r:embed="rId5"/>
                        </a:buBlip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 </a:t>
                      </a:r>
                      <a:r>
                        <a:rPr b="1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Intergration of climate change modeling– </a:t>
                      </a:r>
                      <a:r>
                        <a:rPr b="0" lang="de-DE" sz="2400" spc="-1" strike="noStrike" u="sng">
                          <a:solidFill>
                            <a:srgbClr val="009999"/>
                          </a:solidFill>
                          <a:uFillTx/>
                          <a:latin typeface="TheSansOffice"/>
                          <a:ea typeface="Arial"/>
                          <a:hlinkClick r:id="rId6"/>
                        </a:rPr>
                        <a:t>started</a:t>
                      </a:r>
                      <a:br>
                        <a:rPr sz="2400"/>
                      </a:br>
                      <a:r>
                        <a:rPr b="1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    </a:t>
                      </a:r>
                      <a:r>
                        <a:rPr b="0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CMMA modeling using Marxan, quads split 15*15</a:t>
                      </a:r>
                      <a:br>
                        <a:rPr sz="2400"/>
                      </a:br>
                      <a:r>
                        <a:rPr b="0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    species status prediction for 2050</a:t>
                      </a:r>
                      <a:br>
                        <a:rPr sz="2400"/>
                      </a:br>
                      <a:r>
                        <a:rPr b="0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    statistics summary by qua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25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After funding ends to be maintained by </a:t>
                      </a:r>
                      <a:r>
                        <a:rPr b="0" lang="de-DE" sz="2800" spc="-1" strike="noStrike">
                          <a:solidFill>
                            <a:srgbClr val="ff5050"/>
                          </a:solidFill>
                          <a:latin typeface="TheSansOffice"/>
                          <a:ea typeface="Arial"/>
                        </a:rPr>
                        <a:t>CALFLO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705720" y="0"/>
            <a:ext cx="2438280" cy="320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heSansOffice"/>
              </a:rPr>
              <a:t>Talk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609480"/>
          <a:ext cx="8534520" cy="556236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674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ts val="5998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buSzPct val="102909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4d4d4d"/>
                          </a:solidFill>
                          <a:latin typeface="TheSansOffice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4d4d4d"/>
                          </a:solidFill>
                          <a:latin typeface="TheSansOffice"/>
                        </a:rPr>
                        <a:t>The CalWeedMapper Projec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buSzPct val="102805"/>
                        <a:buBlip>
                          <a:blip r:embed="rId2"/>
                        </a:buBlip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4d4d4d"/>
                          </a:solidFill>
                          <a:latin typeface="TheSansOffice"/>
                        </a:rPr>
                        <a:t> </a:t>
                      </a:r>
                      <a:r>
                        <a:rPr b="0" lang="de-DE" sz="2800" spc="-1" strike="noStrike">
                          <a:solidFill>
                            <a:srgbClr val="4d4d4d"/>
                          </a:solidFill>
                          <a:latin typeface="TheSansOffice"/>
                        </a:rPr>
                        <a:t>this presentation is about the expert  </a:t>
                      </a:r>
                      <a:br>
                        <a:rPr sz="2800"/>
                      </a:br>
                      <a:r>
                        <a:rPr b="0" lang="de-DE" sz="2800" spc="-1" strike="noStrike">
                          <a:solidFill>
                            <a:srgbClr val="4d4d4d"/>
                          </a:solidFill>
                          <a:latin typeface="TheSansOffice"/>
                        </a:rPr>
                        <a:t>     online editing tool (part of larger projec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ts val="5998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buSzPct val="102909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4d4d4d"/>
                          </a:solidFill>
                          <a:latin typeface="TheSansOffice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4d4d4d"/>
                          </a:solidFill>
                          <a:latin typeface="TheSansOffice"/>
                        </a:rPr>
                        <a:t>Approach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ts val="33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buSzPct val="102805"/>
                        <a:buBlip>
                          <a:blip r:embed="rId4"/>
                        </a:buBlip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Organizat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ts val="33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buSzPct val="102805"/>
                        <a:buBlip>
                          <a:blip r:embed="rId5"/>
                        </a:buBlip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Technical Tools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</a:t>
                      </a: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 desig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buSzPct val="103006"/>
                        <a:buBlip>
                          <a:blip r:embed="rId6"/>
                        </a:buBlip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ts val="5998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buSzPct val="102865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40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 </a:t>
                      </a:r>
                      <a:r>
                        <a:rPr b="0" lang="de-DE" sz="4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Technical make-up: online tool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ts val="5998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buSzPct val="102909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4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 </a:t>
                      </a:r>
                      <a:r>
                        <a:rPr b="0" lang="de-DE" sz="4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Project Outlook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05720" y="0"/>
            <a:ext cx="2438280" cy="320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heSansOffice"/>
              </a:rPr>
              <a:t>Talk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09480" y="533520"/>
          <a:ext cx="7772400" cy="417816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418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ts val="5499"/>
                        </a:lnSpc>
                        <a:spcAft>
                          <a:spcPts val="99"/>
                        </a:spcAft>
                        <a:buSzPct val="102861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4d4d4d"/>
                          </a:solidFill>
                          <a:latin typeface="TheSansOffice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4d4d4d"/>
                          </a:solidFill>
                          <a:latin typeface="TheSansOffice"/>
                        </a:rPr>
                        <a:t>CalWeedMapper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buSzPct val="102805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de-DE" sz="28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Project by CAL-IPC</a:t>
                      </a:r>
                      <a:br>
                        <a:rPr sz="2800"/>
                      </a:br>
                      <a:r>
                        <a:rPr b="0" lang="de-DE" sz="28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de-DE" sz="24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„map the spread to stop the spread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901"/>
                        </a:spcAft>
                        <a:buSzPct val="102805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de-DE" sz="28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Multiple (non-profit) Partners</a:t>
                      </a:r>
                      <a:br>
                        <a:rPr sz="2800"/>
                      </a:br>
                      <a:r>
                        <a:rPr b="0" lang="de-DE" sz="28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de-DE" sz="24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CALIPC, CALFLORA, BAEDN, </a:t>
                      </a:r>
                      <a:br>
                        <a:rPr sz="2400"/>
                      </a:br>
                      <a:r>
                        <a:rPr b="0" lang="de-DE" sz="24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    Sonoma Ecology Cen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901"/>
                        </a:spcBef>
                        <a:buSzPct val="102805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de-DE" sz="28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Fun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American Reinvestment and Recovery Act (ARRA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219320" y="4572000"/>
          <a:ext cx="6933960" cy="1463760"/>
        </p:xfrm>
        <a:graphic>
          <a:graphicData uri="http://schemas.openxmlformats.org/drawingml/2006/table">
            <a:tbl>
              <a:tblPr/>
              <a:tblGrid>
                <a:gridCol w="693396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and others…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USDA Forest Service, State and Private Forestry Program, California Department of Food &amp; Agriculture, National Fish and Wildlife, Resources Legacy Fund, Richard and Rhoda Goldman F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05720" y="0"/>
            <a:ext cx="2438280" cy="320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heSansOffice"/>
              </a:rPr>
              <a:t>Int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4971960"/>
            <a:ext cx="3809880" cy="1276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6880" y="3629160"/>
            <a:ext cx="8734320" cy="1247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680" y="2590920"/>
            <a:ext cx="956304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0880" y="390600"/>
            <a:ext cx="7877160" cy="21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2209680" y="1676520"/>
          <a:ext cx="6782040" cy="833400"/>
        </p:xfrm>
        <a:graphic>
          <a:graphicData uri="http://schemas.openxmlformats.org/drawingml/2006/table">
            <a:tbl>
              <a:tblPr/>
              <a:tblGrid>
                <a:gridCol w="67820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CALIPC - a non profit with the go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to protect California’s wildl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705720" y="0"/>
            <a:ext cx="2438280" cy="320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heSansOffice"/>
              </a:rPr>
              <a:t>Talk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480" y="762120"/>
          <a:ext cx="7772400" cy="266364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333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spcAft>
                          <a:spcPts val="99"/>
                        </a:spcAft>
                        <a:buSzPct val="102861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4d4d4d"/>
                          </a:solidFill>
                          <a:latin typeface="TheSansOffice"/>
                        </a:rPr>
                        <a:t> </a:t>
                      </a:r>
                      <a:r>
                        <a:rPr b="0" lang="en-US" sz="4400" spc="-1" strike="noStrike">
                          <a:solidFill>
                            <a:srgbClr val="4d4d4d"/>
                          </a:solidFill>
                          <a:latin typeface="TheSansOffice"/>
                        </a:rPr>
                        <a:t>CalWeedMapper Approach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buSzPct val="102805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Organization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buSzPct val="10287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Technical tools </a:t>
                      </a:r>
                      <a:r>
                        <a:rPr b="0" lang="en-US" sz="3200" spc="-1" strike="noStrike">
                          <a:solidFill>
                            <a:srgbClr val="4d4d4d"/>
                          </a:solidFill>
                          <a:latin typeface="Wingdings"/>
                          <a:ea typeface="Wingdings"/>
                        </a:rPr>
                        <a:t></a:t>
                      </a:r>
                      <a:r>
                        <a:rPr b="0" lang="de-DE" sz="3200" spc="-1" strike="noStrike">
                          <a:solidFill>
                            <a:srgbClr val="4d4d4d"/>
                          </a:solidFill>
                          <a:latin typeface="Arial"/>
                          <a:ea typeface="Arial"/>
                        </a:rPr>
                        <a:t> desig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705720" y="0"/>
            <a:ext cx="2438280" cy="320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heSansOffice"/>
              </a:rPr>
              <a:t>Talk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80880" y="609480"/>
          <a:ext cx="8534520" cy="511020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11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4d4d4d"/>
                          </a:solidFill>
                          <a:latin typeface="TheSansOffice"/>
                        </a:rPr>
                        <a:t>Data collection effort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buSzPct val="102872"/>
                        <a:buBlip>
                          <a:blip r:embed="rId1"/>
                        </a:buBlip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4d4d4d"/>
                          </a:solidFill>
                          <a:latin typeface="TheSansOffice"/>
                        </a:rPr>
                        <a:t> </a:t>
                      </a:r>
                      <a:r>
                        <a:rPr b="0" lang="de-DE" sz="3200" spc="-1" strike="noStrike">
                          <a:solidFill>
                            <a:srgbClr val="4d4d4d"/>
                          </a:solidFill>
                          <a:latin typeface="TheSansOffice"/>
                        </a:rPr>
                        <a:t>schedule field staff for interviews</a:t>
                      </a:r>
                      <a:br>
                        <a:rPr sz="3200"/>
                      </a:br>
                      <a:r>
                        <a:rPr b="0" lang="de-DE" sz="3200" spc="-1" strike="noStrike">
                          <a:solidFill>
                            <a:srgbClr val="4d4d4d"/>
                          </a:solidFill>
                          <a:latin typeface="TheSansOffice"/>
                        </a:rPr>
                        <a:t>    </a:t>
                      </a:r>
                      <a:r>
                        <a:rPr b="0" lang="de-DE" sz="2400" spc="-1" strike="noStrike">
                          <a:solidFill>
                            <a:srgbClr val="4d4d4d"/>
                          </a:solidFill>
                          <a:latin typeface="TheSansOffice"/>
                        </a:rPr>
                        <a:t>edit sessions with plant species experts</a:t>
                      </a:r>
                      <a:r>
                        <a:rPr b="0" lang="de-DE" sz="3200" spc="-1" strike="noStrike">
                          <a:solidFill>
                            <a:srgbClr val="4d4d4d"/>
                          </a:solidFill>
                          <a:latin typeface="TheSansOffice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buSzPct val="102872"/>
                        <a:buBlip>
                          <a:blip r:embed="rId2"/>
                        </a:buBlip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4d4d4d"/>
                          </a:solidFill>
                          <a:latin typeface="TheSansOffice"/>
                        </a:rPr>
                        <a:t> </a:t>
                      </a:r>
                      <a:r>
                        <a:rPr b="0" lang="de-DE" sz="3200" spc="-1" strike="noStrike">
                          <a:solidFill>
                            <a:srgbClr val="4d4d4d"/>
                          </a:solidFill>
                          <a:latin typeface="TheSansOffice"/>
                        </a:rPr>
                        <a:t>reference USGS mapping qua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4d4d4d"/>
                          </a:solidFill>
                          <a:latin typeface="TheSansOffice"/>
                        </a:rPr>
                        <a:t>    </a:t>
                      </a:r>
                      <a:r>
                        <a:rPr b="0" lang="de-DE" sz="2400" spc="-1" strike="noStrike">
                          <a:solidFill>
                            <a:srgbClr val="4d4d4d"/>
                          </a:solidFill>
                          <a:latin typeface="TheSansOffice"/>
                        </a:rPr>
                        <a:t>boundar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buSzPct val="102872"/>
                        <a:buBlip>
                          <a:blip r:embed="rId3"/>
                        </a:buBlip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4d4d4d"/>
                          </a:solidFill>
                          <a:latin typeface="TheSansOffice"/>
                        </a:rPr>
                        <a:t> </a:t>
                      </a:r>
                      <a:r>
                        <a:rPr b="0" lang="de-DE" sz="3200" spc="-1" strike="noStrike">
                          <a:solidFill>
                            <a:srgbClr val="4d4d4d"/>
                          </a:solidFill>
                          <a:latin typeface="TheSansOffice"/>
                        </a:rPr>
                        <a:t>200  plant species (4 priority levels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buSzPct val="102872"/>
                        <a:buBlip>
                          <a:blip r:embed="rId4"/>
                        </a:buBlip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4d4d4d"/>
                          </a:solidFill>
                          <a:latin typeface="TheSansOffice"/>
                        </a:rPr>
                        <a:t> </a:t>
                      </a:r>
                      <a:r>
                        <a:rPr b="0" lang="de-DE" sz="3200" spc="-1" strike="noStrike">
                          <a:solidFill>
                            <a:srgbClr val="4d4d4d"/>
                          </a:solidFill>
                          <a:latin typeface="TheSansOffice"/>
                        </a:rPr>
                        <a:t>many to many relationships</a:t>
                      </a:r>
                      <a:br>
                        <a:rPr sz="2400"/>
                      </a:br>
                      <a:r>
                        <a:rPr b="0" lang="de-DE" sz="2400" spc="-1" strike="noStrike">
                          <a:solidFill>
                            <a:srgbClr val="4d4d4d"/>
                          </a:solidFill>
                          <a:latin typeface="TheSansOffice"/>
                        </a:rPr>
                        <a:t>     over time many records per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4d4d4d"/>
                          </a:solidFill>
                          <a:latin typeface="TheSansOffice"/>
                        </a:rPr>
                        <a:t>     </a:t>
                      </a:r>
                      <a:r>
                        <a:rPr b="0" lang="de-DE" sz="2400" spc="-1" strike="noStrike">
                          <a:solidFill>
                            <a:srgbClr val="4d4d4d"/>
                          </a:solidFill>
                          <a:latin typeface="TheSansOffice"/>
                        </a:rPr>
                        <a:t>species / quad comb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buSzPct val="102872"/>
                        <a:buBlip>
                          <a:blip r:embed="rId5"/>
                        </a:buBlip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4d4d4d"/>
                          </a:solidFill>
                          <a:latin typeface="TheSansOffice"/>
                        </a:rPr>
                        <a:t> </a:t>
                      </a:r>
                      <a:r>
                        <a:rPr b="0" lang="de-DE" sz="3200" spc="-1" strike="noStrike">
                          <a:solidFill>
                            <a:srgbClr val="4d4d4d"/>
                          </a:solidFill>
                          <a:latin typeface="TheSansOffice"/>
                        </a:rPr>
                        <a:t>supported by online tool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589200" y="0"/>
            <a:ext cx="5554800" cy="624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304920" y="152280"/>
          <a:ext cx="4190760" cy="198144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198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California We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Management Ar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(WMA)</a:t>
                      </a:r>
                      <a:r>
                        <a:rPr b="0" lang="en-US" sz="32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California Depart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of Food and Agricul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6705720" y="0"/>
            <a:ext cx="2438280" cy="320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heSansOffice"/>
              </a:rPr>
              <a:t>Int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133720"/>
            <a:ext cx="5867280" cy="42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4d4d4d"/>
                </a:solidFill>
                <a:uFillTx/>
                <a:latin typeface="Arial"/>
              </a:rPr>
              <a:t>Interview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mostly biologists &amp; lan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NPS, USFS, BLM, Mili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US Fish and Wild Life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altr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Agriculture Depar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A Fish &amp;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attlemen associations &amp; some tri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University of California University 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ome private contractors working for these or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705720" y="0"/>
            <a:ext cx="2438280" cy="3207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heSansOffice"/>
              </a:rPr>
              <a:t>Talk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29200" y="457200"/>
            <a:ext cx="3019320" cy="384804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5867280" y="4419720"/>
            <a:ext cx="2666880" cy="1721880"/>
            <a:chOff x="5867280" y="4419720"/>
            <a:chExt cx="2666880" cy="1721880"/>
          </a:xfrm>
        </p:grpSpPr>
        <p:sp>
          <p:nvSpPr>
            <p:cNvPr id="65" name=""/>
            <p:cNvSpPr/>
            <p:nvPr/>
          </p:nvSpPr>
          <p:spPr>
            <a:xfrm>
              <a:off x="5867280" y="4419720"/>
              <a:ext cx="2666880" cy="166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5943240" y="4703400"/>
              <a:ext cx="2524320" cy="14382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67" name=""/>
          <p:cNvGraphicFramePr/>
          <p:nvPr/>
        </p:nvGraphicFramePr>
        <p:xfrm>
          <a:off x="457200" y="380880"/>
          <a:ext cx="4648320" cy="5796000"/>
        </p:xfrm>
        <a:graphic>
          <a:graphicData uri="http://schemas.openxmlformats.org/drawingml/2006/table">
            <a:tbl>
              <a:tblPr/>
              <a:tblGrid>
                <a:gridCol w="4648320"/>
              </a:tblGrid>
              <a:tr h="625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4d4d4d"/>
                          </a:solidFill>
                          <a:latin typeface="TheSansOffice"/>
                        </a:rPr>
                        <a:t>Workflow data entr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buSzPct val="102884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 </a:t>
                      </a:r>
                      <a:r>
                        <a:rPr b="0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Define work area 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      (pre-sele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buSzPct val="102884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 </a:t>
                      </a:r>
                      <a:r>
                        <a:rPr b="0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Enter session infor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buSzPct val="102884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 </a:t>
                      </a:r>
                      <a:r>
                        <a:rPr b="0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Enter species information : </a:t>
                      </a:r>
                      <a:br>
                        <a:rPr sz="2400"/>
                      </a:br>
                      <a:r>
                        <a:rPr b="0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     </a:t>
                      </a:r>
                      <a:r>
                        <a:rPr b="0" lang="de-DE" sz="2400" spc="-1" strike="noStrike">
                          <a:solidFill>
                            <a:srgbClr val="ff5050"/>
                          </a:solidFill>
                          <a:latin typeface="TheSansOffice"/>
                          <a:ea typeface="Arial"/>
                        </a:rPr>
                        <a:t>observation val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buSzPct val="102884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 </a:t>
                      </a:r>
                      <a:r>
                        <a:rPr b="0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Records are saved i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    </a:t>
                      </a:r>
                      <a:r>
                        <a:rPr b="0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PostGIS data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buSzPct val="102884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 </a:t>
                      </a:r>
                      <a:r>
                        <a:rPr b="0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Session submit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buSzPct val="102884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 </a:t>
                      </a:r>
                      <a:r>
                        <a:rPr b="1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Map Layer is updated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    </a:t>
                      </a:r>
                      <a:r>
                        <a:rPr b="1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according to priorities</a:t>
                      </a:r>
                      <a:r>
                        <a:rPr b="0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    </a:t>
                      </a:r>
                      <a:r>
                        <a:rPr b="0" lang="de-DE" sz="2400" spc="-1" strike="noStrike">
                          <a:solidFill>
                            <a:srgbClr val="4d4d4d"/>
                          </a:solidFill>
                          <a:latin typeface="TheSansOffice"/>
                          <a:ea typeface="Arial"/>
                        </a:rPr>
                        <a:t>-&gt; multiple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0"/>
            <a:ext cx="8325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3:34:02Z</dcterms:created>
  <dc:creator>trang_karsten</dc:creator>
  <dc:description/>
  <dc:language>en-US</dc:language>
  <cp:lastModifiedBy>trang_karsten</cp:lastModifiedBy>
  <dcterms:modified xsi:type="dcterms:W3CDTF">2011-05-13T21:14:08Z</dcterms:modified>
  <cp:revision>362</cp:revision>
  <dc:subject/>
  <dc:title>Slide 1</dc:title>
</cp:coreProperties>
</file>